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8E0-8C5A-4ED8-9321-89B4C1DC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4D2-6CAA-4D7D-A784-0B39BD77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C50-120D-40D3-AB84-DE678802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9D1-57A8-4D3E-BFEB-14CA98C2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5CC-C8E6-4A4D-92DF-E741B3A8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0C1-38F4-401D-96C8-84B1A015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CB2-01FF-4692-BB0B-8145967F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E69-F60B-48FF-9B15-6E34CEB0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700-BA09-44CE-9B35-62259CD0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EB1-7D92-45D6-A106-6842465B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5C6-4FEB-4625-B495-C8D5245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485-1D41-47E4-8414-AA4123B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5BA1-D43C-4EA5-93B7-5AE3696A59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452-33F2-44DA-AE0C-7CB69A503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BB94-CACD-47DA-A7B7-C9EE454376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водная лекция по дисциплин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Надежность агрегатов и систем воздушных суд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DADC-547B-4AE9-94E6-6320A0A88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480" y="71388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alibri"/>
              </a:rPr>
              <a:t>Второй этап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характеризовался широким развитием работ по экспериментальной оценке фактической надежности, сбору и обработке эксплуатационной информации о надежности. В результате осуществленных на этом этапе работ была пересмотрена концепция случайности причин отказов и их неизбежности, были объяснены многие случайные отказы и установлена взаимосвязь между конструкцией изделия, технологией изготовления и причинами отказ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ация о надежности изделий стала более полной, что позволило внести значительную ясность в сущность отказ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9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B23B-0404-4817-A1AD-181455CEF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Третий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этап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характеризуется как дальнейшим развитием математической теории надежности, так и сближением этой науки с техническими дисциплинами, приданием надежности инженерной направлен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785C-471C-4348-84F2-57352DC11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00" y="428760"/>
            <a:ext cx="8786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b050"/>
                </a:solidFill>
                <a:latin typeface="Calibri"/>
              </a:rPr>
              <a:t>Большинству работ на этом этапе присущи следующие принцип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каз от концепции случайности причин отказов и их неизбежности и связь отказов с конструктивно-технологическими фактор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сть установления причин отказов, а не только констатация их случаев и чис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сутствие направленности методов промышленного контроля, действующих на предприятиях, на выявление дефектов, приводящих к отказа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сть повсеместного перехода на контроль надежности в условиях изготов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48CC-847A-424B-9D62-89321FA37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1c11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1e1c11"/>
                </a:solidFill>
                <a:latin typeface="Calibri"/>
              </a:rPr>
              <a:t>Современным концепциям организации работ в области на­дежности в большинстве стран придается конкретная практическая направленность. Так, в Японии издано специальное руководство для директоров фирм, в котором определен состав конкретных мероприятий при проведении работ в области надеж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причин отказов изделий-аналог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тандартизованных элем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ощение конструкции системы (издел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ение ошибок при конструировании и изготовле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ое изучение достигнутого уровня надеж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требуемого уровня надежности комплектующих элем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резервир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легкости осмотра и технического обслужи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кая регламентация в технических условиях режимов эксплуатации и функциональных огранич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ие условий хранения и максимально допустимой длительности хран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необходимой упаковки, учитывающей удары и вибрации при транспортирова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убподрядчиков, поставляющих продукцию гарантированного качества, и контроль за их деятельност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времени выполнения изделием своих функций и регламентация допускаемого срока использования издел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чное соблюдение регламента технических обслужи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ED29-D149-4166-8394-600F9A3F5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тработка  на надежность серийно изготавливаемых изделий должна включать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ю сбора и обработки информации о надежности изделий в процессе эксплуат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ю анализа рекламаций, претензий потребителей и данных служб гарантийного ремо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составных частей, лимитирующих надежность изделий (слабых элементов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ление причин отказов и повторяемости каждого из ни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технологических параметров, оказывающих решающее влияние на надежность изделий и их комплектующи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у и реализацию мероприятий по устранению причин наиболее часто повторяющихся отказ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9AEE-3CFF-4F27-8A7D-D9330CD8B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тметить, что теоретические и практические исследования в области надежности развивались по двум основным направления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ерв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правление связано с развитием математических методов оценки надежности, особенно применительно к сложным систем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м случае на основе статистической обработки результатов наблюдений за отказами разрабатывают методы, обеспечивающие высокий уровень надежности путем оптимизации структуры слож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направление возникло в радиоэлектрон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8BE8-C330-4FED-A74B-854B8D4E6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920" y="71424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Второе направл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ано с изучением физических процессов старения (изнашивания, усталостного разрушения, коррозии, кавитации и др.). В этом случае разрабатывают соответствующие методы расчета на долговечность и применяют технологические способы, обеспечивающие необходимую надежность конструктивных элементов. Это направление возникло в машиностро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478-9C89-44C3-87A2-22C060787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142560"/>
            <a:ext cx="89298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890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диагностика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сходит от греческого слов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agnostico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способный распозна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890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стоящее время большинство исследователей определяют диагностику как науку о формах проявления отказов, методах и средствах определения техни</a:t>
            </a:r>
            <a:fld id="{BE1D1048-F154-4DD0-A8A1-8AC6C29B4449}" type="slidenum">
              <a:rPr b="0" lang="ru-RU" sz="3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ского состояния и прогнозирования ресурса работы технических устройств без их разбор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890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31CD-7BC0-4B54-B3EC-B67D5F59C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28584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включает в себя контроль технического состояния автомобиля, прогноз ресурса его безотказной работы и заключение о необходимых технических воздействиях на механиз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тро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ит в сравнении показателей технического состояния механизма, выраженных диагностическими сигналами, с нормативами. На основании этого выявляют неисправности механизм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гноз ресурс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определение возможности пробега автомобиля до очередной диагностики. Задача прогноза ресурса сводится к экстраполяции закономерности изменения работоспособ­ности объекта до достижения им предельного состояния, обусловленного технико-экономической целесообразностью дальнейшего исполь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ключ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 себя перечень необходимых воздействий на механизм как ремонтного (по результатам контроля), так и профилактического (по результатам прогноза) характе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933A-3907-40DE-8F50-A49B8467F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85816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1. Предмет, цели и задачи дисциплины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77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еория надежност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зрабатывает методы и средства поиска неисправностей в данном объекте — она располагает методами, позволяющими определять (на основе анализа статистической информации) вероятность возникновения отказов в совокупности одинаковых объек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2E80-4C14-4353-9FDA-CC265FCA7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ехническая диагностик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олагает методами, с помощью которых можно оценить состояние конкретного объекта. Вместе с тем многие задачи диагностики решаются на основе теории наде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A6FE-141F-457C-AD99-5EAC394CF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труктуру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теории надеж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ходят разделы, которые могут изучаться как самостоятельные дисциплин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тематическая теория надеж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зическая теория надежности (физика отказ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гнозирование работоспособ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агностика технического состоя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ория контроля показателей надеж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ория восстановления работоспособ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80F8-F17B-43BE-970E-555AA5238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бые технические устройства всегда изготавливали в расчете на некоторый достаточный для практических целей период экономически эффективного использования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ко долгое время надежность не измеряли количественно, что значительно затрудняло ее объективную оцен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ценки надежности использовали такие понятия, как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«высокая надежность», «низкая надежность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другие качественные определ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овление количественных показателей надежности и способов их измерения и расчета положило начало научным методам в исследовании надеж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A0E7-126D-45D6-B33C-8D2427655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2. Этапы развития работ в области надежности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920" y="642960"/>
            <a:ext cx="88581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нашей стране проблема надежности машин в концептуальном аспекте впервые была выдвинута и обсуждена на сессии Академии наук СССР в 1934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первых этапах развития теории надежности основное внимание было сосредоточено на сборе и обработке статистических данных об отказах изделий. В оценке надежности преобладал характер констатации количественных характеристик потока отказов на основании статистических да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теории надежности сопровождалось совершенствованием вероятностных методов исследования, таких как определение законов распределений наработок до отказа, разработка методов расчета и испытаний изделий с учетом случайного характера отказов и т. 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680-F76F-4EC3-837C-5981B2BA6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личивающаяся сложность технических устройств, возрастающая ответственность функций, выполняемых техническими системами, повышение требований к качеству изделий и условиям их работы, возросшая роль автоматизации управления техническими объектами — основные факторы, определившие главное направление в развитии науки о наде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 становятся все более сложными, состоящими из десятков тысяч элементов. Если не принимать специальные меры по обеспечению надежности, любая машина практически окажется неработоспособ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0C13-E480-42EF-A494-D47AB443C1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 вопросов, входящих в компетенцию теории надежности, наиболее полно сформулировал академик А. И. Берг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434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434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Теория надежности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устанавливает закономерности возникновения отказов и восстановления работоспособности системы и ее элементов, рассматривает влияние внешних и внутренних воздействий на процессы в системах, создает основы расчета надежности и предсказания отказов, изыскивает способы повышения надежности при конструировании и изготовлении систем и их элементов, а также способы сохранения надежности при эксплуа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B87-B503-446B-A77D-AA2CAD7BF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пы развития работ в области надежности некоторые зарубежные специалисты подразделяют на три этап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Aharoni"/>
              </a:rPr>
              <a:t>Первый этап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Aharoni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карандашно-бумажный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т период выполняли статистико-вероятностные описания наработок до отказа, основанные на экспоненциальном законе их распреде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менты наступления отказа и их причины рассматривали как случайные события, обладающие фатальной неизбежностью, в отрыве от причин, вызывающих появление отказ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6:07:50Z</dcterms:created>
  <dc:creator>Учебная часть</dc:creator>
  <dc:description/>
  <dc:language>en-US</dc:language>
  <cp:lastModifiedBy>Решенкин А.С.</cp:lastModifiedBy>
  <dcterms:modified xsi:type="dcterms:W3CDTF">2020-02-11T04:21:59Z</dcterms:modified>
  <cp:revision>18</cp:revision>
  <dc:subject/>
  <dc:title>Слайд 1</dc:title>
</cp:coreProperties>
</file>